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916-B634-457F-AFA9-AFD769DD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121-DA78-4455-96BB-0DB82377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31F-C335-4E4A-8E06-B4E65D60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5B8-4A4F-48A5-BC17-9C9EC304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822-8EA7-4870-AAFF-28EAA99D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214-7E3D-4996-9981-EE57221F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5AD-D851-4933-AD1F-7CD01625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4DE-1A88-4321-87EE-5434F16C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2AE-3386-4C18-B745-5C0FBB9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CEB-070E-46BA-95C2-E7C1BFA9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D37-2262-4E93-BB55-B0757897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8D9-C4C9-46B2-B7D6-847165AE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F31A-97B3-4512-A09D-A1A888CA4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2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58920" y="2525040"/>
            <a:ext cx="63291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АВЉ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КЛИНИЧ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ИТ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лавни задаци у раду са болесницима због којих се постављају питањ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линички налаз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на одговарајући начин тумачити симптоме и знаке код болесни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тиологиј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наћи узрок боле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рангирати све могуће дијагнозе по вероватноћи, озбиљности и подложности лечењ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ијагностички тес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изабрати и интерпретирати дијагностички те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Прогноз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проценити вероватни ток болести код болесника и предвидети компликац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изабрати лечење које више користи него што ште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и које вреди напора и трошко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венциј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открити и изменити факторе ризика, како рано открити болест скрининго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авршавање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побољшати своје клиничке вештине и своју пракс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ЧЕТИРИ ЕЛЕМЕНТА ДОБРОГ КЛИНИЧКОГ ПИТАЊ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435880" cy="4705200"/>
        </p:xfrm>
        <a:graphic>
          <a:graphicData uri="http://schemas.openxmlformats.org/drawingml/2006/table">
            <a:tbl>
              <a:tblPr/>
              <a:tblGrid>
                <a:gridCol w="1090440"/>
                <a:gridCol w="1936800"/>
                <a:gridCol w="1913040"/>
                <a:gridCol w="1800360"/>
                <a:gridCol w="16952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олесник или проб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нтервенција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зрок, третман, ит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оређ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е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Како бих описао групу болесника сличних мом? Будите прецизни али кратк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а је главна интервенција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је главна алтернатива интервенцији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могу очекивати да ћу постићи? или Шта ће интервенција заиста постић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болесника са инсуфицијенцијом срца због дилатативне кардиомиопатије, који су у синусном ритму……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да ли би примена варфарина код болесника који прима стандардну терапију за инсуфицијенцију срца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када се упореди са стандардном терапијом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ће мањи морталитет и морбидитет од тромбоемболиј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ли је то вредно повећаног ризика од крвављењ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Госпођиц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Драгица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год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ећ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сетак дана пати од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ерианалне фисту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ба да добије антибиотик који ће излечити ову инфекц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Читала је о томе у новин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идела је да с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д фистуле даје више антибиотика, али се најчешће помињу ципрофлоксацин и метронидазо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нутно има болове, а температура је повишена на 37,5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ЛИНИЧКО ПИТАЊ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 л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ципрофлоксаци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са већом вероватноћом од </a:t>
            </a:r>
            <a:r>
              <a:rPr b="0" lang="sr-CS" sz="3200" spc="-1" strike="noStrike">
                <a:solidFill>
                  <a:srgbClr val="00b050"/>
                </a:solidFill>
                <a:latin typeface="Times New Roman"/>
              </a:rPr>
              <a:t>метронидазол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довести до </a:t>
            </a:r>
            <a:r>
              <a:rPr b="0" lang="sr-CS" sz="3200" spc="-1" strike="noStrike">
                <a:solidFill>
                  <a:srgbClr val="7030a0"/>
                </a:solidFill>
                <a:latin typeface="Times New Roman"/>
              </a:rPr>
              <a:t>излече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cc0066"/>
                </a:solidFill>
                <a:latin typeface="Times New Roman"/>
              </a:rPr>
              <a:t>перианалне фисту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785960" y="2500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 ли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ципрофлоксаци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са већом вероватноћом од </a:t>
            </a:r>
            <a:r>
              <a:rPr b="0" lang="sr-CS" sz="1800" spc="-1" strike="noStrike">
                <a:solidFill>
                  <a:srgbClr val="00b050"/>
                </a:solidFill>
                <a:latin typeface="Times New Roman"/>
              </a:rPr>
              <a:t>метронидазол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довести до </a:t>
            </a:r>
            <a:r>
              <a:rPr b="0" lang="sr-CS" sz="1800" spc="-1" strike="noStrike">
                <a:solidFill>
                  <a:srgbClr val="7030a0"/>
                </a:solidFill>
                <a:latin typeface="Times New Roman"/>
              </a:rPr>
              <a:t>излечењ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cc0066"/>
                </a:solidFill>
                <a:latin typeface="Times New Roman"/>
              </a:rPr>
              <a:t>перианалне фистул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368400" y="5214960"/>
            <a:ext cx="2428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облем или болес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7139160" y="1285920"/>
            <a:ext cx="792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с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079360" y="1571760"/>
            <a:ext cx="1526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тервен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40440" y="4214880"/>
            <a:ext cx="1273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поређењ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Straight Arrow Connector 11"/>
          <p:cNvCxnSpPr/>
          <p:nvPr/>
        </p:nvCxnSpPr>
        <p:spPr>
          <a:xfrm>
            <a:off x="2999160" y="2000160"/>
            <a:ext cx="358200" cy="572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12"/>
          <p:cNvCxnSpPr/>
          <p:nvPr/>
        </p:nvCxnSpPr>
        <p:spPr>
          <a:xfrm flipV="1">
            <a:off x="1428840" y="3071520"/>
            <a:ext cx="429120" cy="1072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Straight Arrow Connector 13"/>
          <p:cNvCxnSpPr/>
          <p:nvPr/>
        </p:nvCxnSpPr>
        <p:spPr>
          <a:xfrm flipH="1">
            <a:off x="5285880" y="1571760"/>
            <a:ext cx="1643760" cy="1286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14"/>
          <p:cNvCxnSpPr/>
          <p:nvPr/>
        </p:nvCxnSpPr>
        <p:spPr>
          <a:xfrm flipH="1" flipV="1">
            <a:off x="5940000" y="3071520"/>
            <a:ext cx="1418400" cy="2000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5-08-02T12:22:33Z</dcterms:modified>
  <cp:revision>59</cp:revision>
  <dc:subject/>
  <dc:title>Slide 1</dc:title>
</cp:coreProperties>
</file>